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747-4DB8-4D6E-9721-C8678FE5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A10-53A0-474C-AE49-CC982CFB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E10-BD17-4FE3-A356-D67AEB75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9E0E-1413-4506-BD30-54F26919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E72-B229-4DB3-A8D5-52E1442D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EF3-6AD4-47C0-9E4E-F74858F0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57F0-2772-4877-AEEC-75935059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B7B-F753-41A2-9F89-3AEE3A76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E8A-CCDB-4D57-AAB6-4A5F230A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C65-FFDA-41E0-B131-AEE67FBA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326B-C9C6-4318-88E1-7CAD36F0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952-018B-486B-B15F-18B3C33D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A84E-7CDE-4160-808C-4FEF4B68A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PM_sol_Garage_Gantt.xls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PM_sol_Garage_Pert.doc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609480"/>
            <a:ext cx="777564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A Unit 3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-Solving Methodology &amp;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  Design – Formats &amp; Conven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sheets, Numeric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le nos. no decimal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s representing monetary values, either 2 decimal places or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left, numerical data right align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$ consist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otals use a single line above total and grand totals single line above and double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s: title, axes labelled and legend or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  Design – Formats &amp; Conven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eaningful name of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ames of forms indicate their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ields, short descriptive names &amp; not use 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Queries include search criteria in 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 – Project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f it takes two people two days to complete a task how long does it tak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ur peop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ight peop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roject egs: office blocks, freeway projects; change projects: problem resolution, (health &amp; safety), cost reduction, management, development and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 – Project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f it takes two people two days to complete a task how long does it tak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ur peop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ight peop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roject egs: office blocks, freeway projects; change projects: problem resolution, (health &amp; safety), cost reduction, management, development and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 – Project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f it takes two people two days to complete a task how long does it tak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ur peop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ight peop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roject egs: office blocks, freeway projects; change projects: problem resolution, (health &amp; safety), cost reduction, management, development and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 – Project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f it takes two people two days to complete a task how long does it tak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ur peop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ight peop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roject egs: office blocks, freeway projects; change projects: problem resolution, (health &amp; safety), cost reduction, management, development and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 – Project Manage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 project is an activity hav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 specific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 time frame for compl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 unique one-tim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 finite resource 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 sequence of tasks and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lanned undertaking that seek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chieve some go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fixed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a set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nite re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5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 – Project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7993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Documenting a Project: GANTT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 the main project documentation details with details of tasks on horizontal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m member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t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g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 – Project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ing a Projec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t Charts | CPM | PERT/CPM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s the tasks on a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s relationships between tasks with project activities in order of dependency on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plot a critical path through the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s the time needed to complete th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  Design – Project Management - Te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 definable unit of work with an estimated duration, usually performed by one re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Dependency (or lin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 relationship between two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an’t put the roof on until you lay the foun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an’t see the travel agent until you plan the holi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olving – 7 S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848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DDTD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In this unit documentation is not cov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 – P M -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 zero-duration task eg a point in time. Used to indicate major stages in the pro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Critical 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ngest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path in the project. Any changes to tasks on the critical path will affect the end date of the project (minimum tim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no lag time or float 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 – P M -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286000" y="232416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32416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 – P M -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86000" y="232416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32416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 – P M -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-Time, a waiting period chosen by the project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ck time or Lags, amount of time between tasks; often planned allowing event to run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ecessor, a task that must be completed prior to current or specified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olving: 1 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nvestigate 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determine what information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determine data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onsider the format of possibl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from the identified alternative solutions determine which is best able to meet the organsiation’s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resent a project brief to management for appro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 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dentifying the data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hoosing an appropriate softwar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rocessing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macr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hoose layout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hoose tes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hoose con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roject Management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  Design -  Format &amp; Conven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t – Overall style used to present information, (output), eg. Letters, reports, web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tions – Formal way or rules of displaying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  Design -  Format &amp; Conven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aming conven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file in suitably named fo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meaningful fil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ile extension provided by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ooter in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  Design – Format &amp; Conven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datory conven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/month/yr in Australia; ABN and TFN on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actively format h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whit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s to arrang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e information vertically on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full block and open punctuation for correspo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s, title appropriate; name of person &amp;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  Design – Format &amp; Conven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48 point for h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32 point for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contrasting colors, dark background &amp; light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graph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whit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  Design – Format &amp; Conven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contrasting col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image size to 100kb for page (unless broadba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consistent navigation but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last updated and email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blemsolv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23:42:24Z</dcterms:created>
  <dc:creator>KB</dc:creator>
  <dc:description/>
  <dc:language>en-US</dc:language>
  <cp:lastModifiedBy>Kelvin Baird</cp:lastModifiedBy>
  <dcterms:modified xsi:type="dcterms:W3CDTF">2006-12-29T02:14:19Z</dcterms:modified>
  <cp:revision>10</cp:revision>
  <dc:subject/>
  <dc:title>System Development Life Cycle</dc:title>
</cp:coreProperties>
</file>